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2104-88AA-4FAF-899A-82F03A9B1C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南北朝时期全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37A-862A-4CB5-BB15-86B634E5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D1C-49CC-4C8C-BBE7-B6930449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89E-9AF3-4C0E-A326-DD3CDFA9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2E1-B179-4AED-A599-5486C7D1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B146-293E-4A8B-B733-19FCCAE2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DA3F-FBA3-4D77-831B-B62374F0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501A-B9B5-46EB-83FB-8FE3DC91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0340-DA30-4CED-B387-DFF7FF2C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1626-422C-48AE-A21C-7D2CC4E8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8E46-02D0-4626-AC3D-B28BE81A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B984-BF70-4D96-8693-70354C24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714-3CC9-4BAA-8A76-4853C895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6502-3A25-4953-854E-0426C7B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A4A9-7926-4D8A-BF6D-077A683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28F5-6DF7-4899-AE69-B037BA8A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9570-9B3F-4799-A2B8-E212A3DB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27D2-C37B-41AE-9BB4-33B6C2CA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77D-D8FE-463E-91BA-0D48CE4B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F3F-3FD0-4BD6-901F-866FAA1C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09E-3863-4D61-B96F-9AE95D07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09E-209B-4927-B861-AF0F26BD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C49-E773-461A-B073-99891571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09A-4E5C-428C-B047-505FDE75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D90-2011-4CEF-8E3A-8BE76C3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4D2A-23DB-4F21-90BD-5348370A64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DA5-D95B-46A7-9E23-4EA38335D4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第 </a:t>
            </a:r>
            <a:r>
              <a:rPr b="1" lang="en-US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20 </a:t>
            </a:r>
            <a:r>
              <a:rPr b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课</a:t>
            </a:r>
            <a:br>
              <a:rPr sz="8000"/>
            </a:br>
            <a:r>
              <a:rPr b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北方民族大融合</a:t>
            </a:r>
            <a:endParaRPr b="0" lang="en-US" sz="8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练习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找一找：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在今天的日常生活中汉族和少数民族互相影响的现象有哪些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98440" y="-5280120"/>
            <a:ext cx="169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44320" y="-704880"/>
            <a:ext cx="911520" cy="75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鲜卑旧墟石室嘎仙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99600" y="234684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北魏骑兵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080" y="-5280120"/>
            <a:ext cx="96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737080" cy="68580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2847600" y="1506960"/>
            <a:ext cx="91152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陶风帽俑（北魏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39960" y="1506960"/>
            <a:ext cx="91152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陶笼冠俑（北魏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鲜卑姓氏改为汉姓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395280" y="1916280"/>
          <a:ext cx="8299440" cy="3697200"/>
        </p:xfrm>
        <a:graphic>
          <a:graphicData uri="http://schemas.openxmlformats.org/drawingml/2006/table">
            <a:tbl>
              <a:tblPr/>
              <a:tblGrid>
                <a:gridCol w="2251080"/>
                <a:gridCol w="1871640"/>
                <a:gridCol w="2286000"/>
                <a:gridCol w="1890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鲜卑姓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汉 姓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鲜卑姓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汉 姓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拓   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贺  赖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丘墓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独  孤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刘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步六狐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陆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贺  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（孝文帝）诏不得以北俗之语言与朝廷，若有违者，免所居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魏书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-419400"/>
            <a:ext cx="31528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91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中国朝代演进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夏商与西周，东周分两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秋与战国，一统秦两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分魏蜀吴，二晋前后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南北朝并立，隋唐五代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宋元明清后，皇朝至此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一、北方的统一和民族</a:t>
            </a:r>
            <a:br>
              <a:rPr sz="6000"/>
            </a:b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        融合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68756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鲜卑族建立北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90080" y="2708280"/>
            <a:ext cx="4182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0" lang="zh-CN" sz="54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鲜卑族的崛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71640" y="386064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）北魏的建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世纪后期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0920" y="-5266800"/>
            <a:ext cx="3603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0728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0" lang="zh-CN" sz="54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北魏统一黄河流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20520" y="1125360"/>
            <a:ext cx="400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时间：公元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439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7560" y="4005360"/>
            <a:ext cx="1826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表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30520" y="1989000"/>
            <a:ext cx="460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00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宋体"/>
              </a:rPr>
              <a:t>3</a:t>
            </a:r>
            <a:r>
              <a:rPr b="1" lang="zh-CN" sz="5400" spc="-1" strike="noStrike">
                <a:solidFill>
                  <a:srgbClr val="000099"/>
                </a:solidFill>
                <a:latin typeface="宋体"/>
              </a:rPr>
              <a:t>、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北方民族融合趋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Times New Roman"/>
              </a:rPr>
              <a:t>　　　</a:t>
            </a: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的加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4348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84360" y="378936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Times New Roman"/>
              </a:rPr>
              <a:t>生产技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56000" y="4797360"/>
            <a:ext cx="3024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66cc"/>
                </a:solidFill>
                <a:uFillTx/>
                <a:latin typeface="Times New Roman"/>
                <a:hlinkClick r:id="rId2" action="ppaction://hlinksldjump"/>
              </a:rPr>
              <a:t>生活习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24000" y="39337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二、北魏孝文帝迁都洛阳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5240" y="305316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原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87200" y="19890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平城气候干旱，农业不发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90240" y="270828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地理位置偏北，不利于北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统治中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08080" y="414972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保守势力大，不利于改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32400" y="48690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北方柔然的进攻威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42920" y="2133720"/>
            <a:ext cx="216000" cy="360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08360" y="1268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494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年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三、北魏孝文帝的改革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、孝文帝迁都后的改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71640" y="2205000"/>
            <a:ext cx="60483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学说汉语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改穿汉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42920" y="3213000"/>
            <a:ext cx="633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改用汉姓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与汉通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422100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实行汉制，学习汉礼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6920" y="2565360"/>
            <a:ext cx="73080" cy="2232000"/>
          </a:xfrm>
          <a:custGeom>
            <a:avLst/>
            <a:gdLst>
              <a:gd name="textAreaLeft" fmla="*/ 46800 w 73080"/>
              <a:gd name="textAreaRight" fmla="*/ 73440 w 73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844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475920"/>
            <a:ext cx="85122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、北朝的演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0920" y="328464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北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2565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东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56000" y="4149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西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16360" y="263700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北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4221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北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84360" y="2997360"/>
            <a:ext cx="142920" cy="1657080"/>
          </a:xfrm>
          <a:custGeom>
            <a:avLst/>
            <a:gdLst>
              <a:gd name="textAreaLeft" fmla="*/ 42120 w 142920"/>
              <a:gd name="textAreaRight" fmla="*/ 143280 w 142920"/>
              <a:gd name="textAreaTop" fmla="*/ 68760 h 1657080"/>
              <a:gd name="textAreaBottom" fmla="*/ 158832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92360" y="3789360"/>
            <a:ext cx="718920" cy="71280"/>
          </a:xfrm>
          <a:prstGeom prst="rightArrow">
            <a:avLst>
              <a:gd name="adj1" fmla="val 50000"/>
              <a:gd name="adj2" fmla="val 2521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95640" y="2997360"/>
            <a:ext cx="719280" cy="72720"/>
          </a:xfrm>
          <a:prstGeom prst="rightArrow">
            <a:avLst>
              <a:gd name="adj1" fmla="val 50000"/>
              <a:gd name="adj2" fmla="val 2472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24360" y="4653000"/>
            <a:ext cx="718920" cy="71280"/>
          </a:xfrm>
          <a:prstGeom prst="rightArrow">
            <a:avLst>
              <a:gd name="adj1" fmla="val 50000"/>
              <a:gd name="adj2" fmla="val 2521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08720" y="3500280"/>
            <a:ext cx="71280" cy="719280"/>
          </a:xfrm>
          <a:prstGeom prst="downArrow">
            <a:avLst>
              <a:gd name="adj1" fmla="val 50000"/>
              <a:gd name="adj2" fmla="val 25227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</a:rPr>
              <a:t>小结：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-393480" y="1125360"/>
            <a:ext cx="1642680" cy="5183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各族人民长期接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22880" y="1413000"/>
            <a:ext cx="1642680" cy="4608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民族融合的趋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67600" y="1413000"/>
            <a:ext cx="1642680" cy="4608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北魏政府的改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6742080"/>
            <a:ext cx="91440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83600" y="476280"/>
            <a:ext cx="1642680" cy="2717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迁都洛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54880" y="4076640"/>
            <a:ext cx="1642680" cy="2781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改革措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10880" y="4005360"/>
            <a:ext cx="1642680" cy="28526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民族融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58920" y="3284640"/>
            <a:ext cx="1009440" cy="649080"/>
          </a:xfrm>
          <a:prstGeom prst="rightArrow">
            <a:avLst>
              <a:gd name="adj1" fmla="val 50000"/>
              <a:gd name="adj2" fmla="val 3888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48000" y="3284640"/>
            <a:ext cx="934920" cy="649080"/>
          </a:xfrm>
          <a:prstGeom prst="rightArrow">
            <a:avLst>
              <a:gd name="adj1" fmla="val 50000"/>
              <a:gd name="adj2" fmla="val 36009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8100000">
            <a:off x="5218920" y="2924280"/>
            <a:ext cx="1366920" cy="1366560"/>
          </a:xfrm>
          <a:custGeom>
            <a:avLst/>
            <a:gdLst>
              <a:gd name="textAreaLeft" fmla="*/ 392400 w 1366920"/>
              <a:gd name="textAreaRight" fmla="*/ 1170720 w 1366920"/>
              <a:gd name="textAreaTop" fmla="*/ 786960 h 1366560"/>
              <a:gd name="textAreaBottom" fmla="*/ 1170720 h 1366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16720" y="328464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80360" y="5157720"/>
            <a:ext cx="649080" cy="43200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600" y="-6424920"/>
            <a:ext cx="69840" cy="132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0" y="6788160"/>
            <a:ext cx="91440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-596160" y="2708280"/>
            <a:ext cx="1399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东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97360" y="934920"/>
            <a:ext cx="45864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81360" y="1079640"/>
            <a:ext cx="459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42920" y="2205000"/>
            <a:ext cx="73080" cy="2232000"/>
          </a:xfrm>
          <a:custGeom>
            <a:avLst/>
            <a:gdLst>
              <a:gd name="textAreaLeft" fmla="*/ 21240 w 73080"/>
              <a:gd name="textAreaRight" fmla="*/ 73440 w 7308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62880" y="181908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62880" y="297180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58920" y="4076640"/>
            <a:ext cx="5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45400" y="1700280"/>
            <a:ext cx="13993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西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2480" y="189000"/>
            <a:ext cx="13993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十六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42480" y="3645000"/>
            <a:ext cx="13993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东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50480" y="476280"/>
            <a:ext cx="1399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北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45760" y="0"/>
            <a:ext cx="13993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东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45760" y="1341360"/>
            <a:ext cx="1399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西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16000" y="220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4360" y="3357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16000" y="4437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42920" y="3357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35280" y="2276640"/>
            <a:ext cx="2872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00360" y="2276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619280" y="2491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63640" y="443700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411280" y="270828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7640" y="981000"/>
            <a:ext cx="0" cy="313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87640" y="98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87640" y="4076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95640" y="98100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03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35640" y="620640"/>
            <a:ext cx="0" cy="12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35640" y="184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35640" y="62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00720" y="62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27640" y="184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11200" y="0"/>
            <a:ext cx="13993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北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38120" y="1341360"/>
            <a:ext cx="1399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北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599960" y="1557360"/>
            <a:ext cx="7898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93080" y="19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288680" y="3716280"/>
            <a:ext cx="789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76720" y="3645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4400" y="364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36760" y="364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48360" y="4653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南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95640" y="407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59280" y="407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16720" y="407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24360" y="4076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43280" y="4292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3280" y="472428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422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308720" y="407664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956720" y="213336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77080" y="98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88000" y="285264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076720" y="2852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北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788000" y="1988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6877080" y="2420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10T11:33:17Z</dcterms:modified>
  <cp:revision>29</cp:revision>
  <dc:subject/>
  <dc:title>第 20 课 北方民族大融合</dc:title>
</cp:coreProperties>
</file>